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2F3-9E17-4F2A-AB62-8FF505AC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66F-9A70-4EFB-A0CB-F7173ACC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946-D248-41EC-91A5-CA4C9871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9D2-ED97-46FA-8525-492D40F7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C49C-3A7A-4DE5-8640-05B51C4C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A479-35BD-4E0A-8F03-A0FDB5B9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923D-0025-4882-82C6-8438FAFB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B3F1-49C0-499E-8F2C-97A5A53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3ABF-AEF7-4981-98EB-AB4C913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C851-7C2D-4259-8003-779CC71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2D7C-738A-46E7-B658-1A9AAC67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73D-6200-4E7B-9261-BA733675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CC01-0FB2-4519-A14B-4C885D33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60B8-69D6-4DE5-8353-87DAC26A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4EF0-9F1F-4ABF-8B03-4D0C2AC4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E6E-E5A5-4457-83ED-F8A2D726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38C5-E0F3-465C-9114-5466561AE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AB6-94C1-42F4-B74B-9986AC4D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7AF-E45A-434D-9D8D-5846435F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4BB-D871-44B1-93E9-DA6FB84A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BF8-7CBC-4638-AEE0-B627AABE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F7E-5914-4C89-AF8E-1E16E14F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870-7D58-4BD4-8378-B238016A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27F-3D77-4E74-A8EF-46014AB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36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48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600" y="6364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74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56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4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9680" y="6350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160" y="6350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480" cy="177840"/>
                      <a:chOff x="6719760" y="635040"/>
                      <a:chExt cx="66348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8800" y="6350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9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52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864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760" y="634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16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472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6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840" y="633240"/>
                        <a:ext cx="3348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320" y="633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480" cy="177840"/>
                      <a:chOff x="6703920" y="633240"/>
                      <a:chExt cx="66348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2960" y="633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60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7C10-EEAD-4FEE-8163-ABCA75FB1A81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1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480" cy="177840"/>
                        <a:chOff x="2069640" y="3811680"/>
                        <a:chExt cx="66348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83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8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420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80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1520" y="38116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788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160" y="38102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1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5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9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480" cy="177840"/>
                        <a:chOff x="2053800" y="3809880"/>
                        <a:chExt cx="66348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24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9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836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22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5680" y="3809880"/>
                          <a:ext cx="33480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04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320" y="3808440"/>
                        <a:ext cx="33660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2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96AB-EED3-49F8-ACAA-83D96BB0A199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he Socio-Cultural Approach</a:t>
            </a:r>
            <a:br>
              <a:rPr sz="4400"/>
            </a:b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o Personality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rm-Up Refl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normally understand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yourself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 an individual or as part of a group? Why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o you define your personality in terms of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cio-Economic Statu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he Socio-Cultural Approach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rnal forces and their impact on person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eded to understand generalities about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thnicity, S.E.S., and culture help to form person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dividualism v. Collectiv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ndividualism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nd to define selves in terms of personal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Goals are a prio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ity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. – Western Capitalism fosters individualis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5" descr="8874~Cowboy-and-Sunset-Posters"/>
          <p:cNvPicPr/>
          <p:nvPr/>
        </p:nvPicPr>
        <p:blipFill>
          <a:blip r:embed="rId6"/>
          <a:stretch/>
        </p:blipFill>
        <p:spPr>
          <a:xfrm>
            <a:off x="5105520" y="1828800"/>
            <a:ext cx="3419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ollectivism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es selves in terms of the groups in which they belo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iority goes to the gro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ople are only complete in terms of their social relationship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. – Asian cultures are often collectivisti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Picture 5" descr="japanesegroup"/>
          <p:cNvPicPr/>
          <p:nvPr/>
        </p:nvPicPr>
        <p:blipFill>
          <a:blip r:embed="rId5"/>
          <a:stretch/>
        </p:blipFill>
        <p:spPr>
          <a:xfrm>
            <a:off x="5334120" y="1828800"/>
            <a:ext cx="3581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d39f"/>
                </a:solidFill>
                <a:latin typeface="Times New Roman"/>
              </a:rPr>
              <a:t>Key Points - Socio-Cultural Approach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factors affect our self-concept (how we believe others see us)  as well as our self-esteem (our perceived value) (Carl Roger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get views of ourselves from the 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4" name="Picture 5" descr="Mirror-Mirror(b)"/>
          <p:cNvPicPr/>
          <p:nvPr/>
        </p:nvPicPr>
        <p:blipFill>
          <a:blip r:embed="rId3"/>
          <a:stretch/>
        </p:blipFill>
        <p:spPr>
          <a:xfrm>
            <a:off x="2362320" y="3908520"/>
            <a:ext cx="4019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cculturation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culturation is the process of adapting to new/different cultur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ys to acculturat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mplete assimi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pa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-Cultur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ghest self-estee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5" descr="1175"/>
          <p:cNvPicPr/>
          <p:nvPr/>
        </p:nvPicPr>
        <p:blipFill>
          <a:blip r:embed="rId7"/>
          <a:stretch/>
        </p:blipFill>
        <p:spPr>
          <a:xfrm>
            <a:off x="4952880" y="182880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he Socio-Cultural Approach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ocio-Cultural Approach to Personality gives us a sensitivity and an appreciation of human behavior and mental proces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0" name="Picture 5" descr="hispanic_main"/>
          <p:cNvPicPr/>
          <p:nvPr/>
        </p:nvPicPr>
        <p:blipFill>
          <a:blip r:embed="rId2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slmaJudiasm"/>
          <p:cNvPicPr/>
          <p:nvPr/>
        </p:nvPicPr>
        <p:blipFill>
          <a:blip r:embed="rId3"/>
          <a:stretch/>
        </p:blipFill>
        <p:spPr>
          <a:xfrm>
            <a:off x="0" y="38098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22288164"/>
          <p:cNvPicPr/>
          <p:nvPr/>
        </p:nvPicPr>
        <p:blipFill>
          <a:blip r:embed="rId4"/>
          <a:stretch/>
        </p:blipFill>
        <p:spPr>
          <a:xfrm>
            <a:off x="1219320" y="4579920"/>
            <a:ext cx="2819160" cy="227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image?id=73603&amp;rendTypeId=4"/>
          <p:cNvPicPr/>
          <p:nvPr/>
        </p:nvPicPr>
        <p:blipFill>
          <a:blip r:embed="rId5"/>
          <a:stretch/>
        </p:blipFill>
        <p:spPr>
          <a:xfrm>
            <a:off x="3733920" y="3733920"/>
            <a:ext cx="30477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7:06:21Z</dcterms:created>
  <dc:creator>cmccoy</dc:creator>
  <dc:description/>
  <dc:language>en-US</dc:language>
  <cp:lastModifiedBy>Curtis Ranweiler</cp:lastModifiedBy>
  <dcterms:modified xsi:type="dcterms:W3CDTF">2012-03-07T18:17:30Z</dcterms:modified>
  <cp:revision>3</cp:revision>
  <dc:subject/>
  <dc:title>The Socio-Cultural Approach to Personality</dc:title>
</cp:coreProperties>
</file>